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2DE-4ECC-4D77-8F8D-76E2D9DA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C6E-9C38-4F3B-907E-6D938C25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A17-DDFA-4C96-A26F-6B3E79BF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0FF-01CB-470E-895B-6C120F04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8F3-2AED-4DA2-98BB-BB7EE445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B62-D9EB-4B1D-A26F-009911FE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12B-980F-45D3-8B8B-527C19DA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DC9-D9FC-4B5E-B7B4-ED9BE04D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C2E-7684-4947-BE35-3780B6C1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96F-A172-4A94-AB74-55E06BE0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13C-0FCC-40DB-9684-D6C3F45C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98C-1A0E-490B-803F-E82D09BA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9BBF-C819-45A3-92FD-5F269A075D3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Start Local Conferenc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U 1993-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e Aka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gazici University, Istanb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U: Signal Processing and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ly established Signal Processing chapter decided to start a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annual conference on Signal Processing an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he conference is Turk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d in the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 Conference Organizers: A.Enis Cetin, Bulent Sankur, Lale Aka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U 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of ~ $ 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 papers submitted, 40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sessions : speech processing, image processing, computer vision, biomedical signal processing, signal analysis, hardware for signal proces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e held on Bogazici University ca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U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by Bilkent University and Bogazici University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 papers submitted; more participation from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 sessions as well as lecture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d speaker: Jan Bie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in Mugla, at an attractive vacation spot, just before MELECON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SIU Con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1995 – Capadocia: organized by 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1996 – Antalya: by M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1997 – Kusadasi: by Bogazici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1998 – Ankara : by Baskent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1999 – Ankara: by Bilkent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2000 – Antalya: by Istanbul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2001 – Cyprus: by E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U 2002 – Pamukkale: by Isik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U 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d in Istanbul, organized by Koc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: Murat Teka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6 papers submitted; 220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arallel lecture sessions, 2 parallel poster s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invited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and support by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f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ase of academic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Distinguished visito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registration fee: 30-90 E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ocial program; attractive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06:27:35Z</dcterms:created>
  <dc:creator>Lale Akarun</dc:creator>
  <dc:description/>
  <dc:language>en-US</dc:language>
  <cp:lastModifiedBy>bilkent</cp:lastModifiedBy>
  <dcterms:modified xsi:type="dcterms:W3CDTF">2003-09-12T17:42:24Z</dcterms:modified>
  <cp:revision>5</cp:revision>
  <dc:subject/>
  <dc:title>How to Start Local Conferences:  SIU 1993-2003</dc:title>
</cp:coreProperties>
</file>