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7A9E9-681B-4A7A-9ACA-A6495012A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DE8D-28E8-427B-8FD5-7F6F4A76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91701-6F6D-48E7-9573-5B206D08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4CF95-FAAE-41FB-AB7B-65A2B6818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7026-9A19-41D0-A6C8-D0F44258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F1C-7D3B-45A3-8415-E600680FF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4DF4-F0F9-4669-B823-C2FB1CCB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245D-8D5E-4511-939E-5203A9CA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7180E-8E49-459A-80A2-59DE8A23A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FD6F7-DF25-4C7C-90E4-69DF5892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1FD3-14A9-448A-BE21-03F99E1D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7A2C-1E46-4313-9C19-2D0D03D65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8091-23CD-4D01-B12F-D58411C71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57200" y="6095880"/>
            <a:ext cx="2743200" cy="633600"/>
          </a:xfrm>
          <a:prstGeom prst="rect">
            <a:avLst/>
          </a:prstGeom>
          <a:ln w="0">
            <a:noFill/>
          </a:ln>
        </p:spPr>
      </p:pic>
      <p:pic>
        <p:nvPicPr>
          <p:cNvPr id="6" name="" descr=""/>
          <p:cNvPicPr/>
          <p:nvPr/>
        </p:nvPicPr>
        <p:blipFill>
          <a:blip r:embed="rId3"/>
          <a:stretch/>
        </p:blipFill>
        <p:spPr>
          <a:xfrm>
            <a:off x="7315200" y="6172200"/>
            <a:ext cx="135252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eee.org/organizations/society/sp/tc.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How to Get Involved with the Signal Processing Societ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ch Cox</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pt.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Conference Boar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Conferences (</a:t>
            </a:r>
            <a:r>
              <a:rPr b="0" lang="en-US" sz="2800" spc="-1" strike="noStrike">
                <a:solidFill>
                  <a:srgbClr val="000000"/>
                </a:solidFill>
                <a:latin typeface="Arial"/>
              </a:rPr>
              <a:t>Rabab Ward, 2003-2005</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Future &amp; Past General Chairs of ICASSP &amp; IC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tives from each of the 10 Technical Committ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 Trea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Finances (</a:t>
            </a:r>
            <a:r>
              <a:rPr b="0" lang="en-US" sz="2800" spc="-1" strike="noStrike">
                <a:solidFill>
                  <a:srgbClr val="000000"/>
                </a:solidFill>
                <a:latin typeface="Arial"/>
              </a:rPr>
              <a:t>V. John Mathew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Publications Boar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 Publications (Arye Nehora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in-Chief fro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Signal Processing </a:t>
            </a:r>
            <a:r>
              <a:rPr b="0" lang="en-US" sz="2000" spc="-1" strike="noStrike">
                <a:solidFill>
                  <a:srgbClr val="000000"/>
                </a:solidFill>
                <a:latin typeface="Arial"/>
              </a:rPr>
              <a:t>(Ali Sayed)</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Image Processing</a:t>
            </a:r>
            <a:r>
              <a:rPr b="0" lang="en-US" sz="2000" spc="-1" strike="noStrike">
                <a:solidFill>
                  <a:srgbClr val="000000"/>
                </a:solidFill>
                <a:latin typeface="Arial"/>
              </a:rPr>
              <a:t> (Jelena Kovacevic)</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Speech &amp; Audio Processing </a:t>
            </a:r>
            <a:r>
              <a:rPr b="0" lang="en-US" sz="2000" spc="-1" strike="noStrike">
                <a:solidFill>
                  <a:srgbClr val="000000"/>
                </a:solidFill>
                <a:latin typeface="Arial"/>
              </a:rPr>
              <a:t>(Isabel Trancoso)</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P Magazine</a:t>
            </a:r>
            <a:r>
              <a:rPr b="0" lang="en-US" sz="2000" spc="-1" strike="noStrike">
                <a:solidFill>
                  <a:srgbClr val="000000"/>
                </a:solidFill>
                <a:latin typeface="Arial"/>
              </a:rPr>
              <a:t> (K. J. Ray Liu)</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gnal Processing Letters</a:t>
            </a:r>
            <a:r>
              <a:rPr b="0" lang="en-US" sz="2000" spc="-1" strike="noStrike">
                <a:solidFill>
                  <a:srgbClr val="000000"/>
                </a:solidFill>
                <a:latin typeface="Arial"/>
              </a:rPr>
              <a:t> (Alle-Jan van der Vee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 Finance (V. John Math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making publication budgets, appointing new EICs, approving special issue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each publication has an Editorial Board consisting of the EIC and the Associate Edi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 are appointed by the EIC of the respective 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echnical Committe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11 Technical Committee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dio &amp; Electroacoustics (Michael Brandstei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amp; Implementation of Signal Processing Systems (Magdi Bayoum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amp; Multidimensional Signal Processing (Thrasos Papp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media Signal Processing (John Sorens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ral Networks for Signal Processing (Tulay Adal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 Array &amp; Multichannel (Kon Max Wo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Education (Thad B. Wel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for Communications (Alle-Jan van der V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Theory &amp; Methods (Mats Viber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ch Processing (Michael Picheny)</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s are responsible for organizing the reviews of papers submitted to their respective areas for ICASSP and IC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are responsible for organizing workshops in their respective are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ere is the Standing Committee on Industry DSP Technology (Jennifer Trelewi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orial Bo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review for any of our public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olunteer your services, go to </a:t>
            </a:r>
            <a:r>
              <a:rPr b="0" lang="en-US" sz="2400" spc="-1" strike="noStrike">
                <a:solidFill>
                  <a:srgbClr val="000000"/>
                </a:solidFill>
                <a:latin typeface="Arial"/>
              </a:rPr>
              <a:t>http://www.ieee.org/organizations/society/sp/pub.html and then follow the links to one of our publications to find the names (and links) to its AEs and E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yourself known to the appropriate folks and volunteer to help as a reviewer to establish your reputation, or volunteer your name as a potential AE to the E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Committee Memb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you active in a particular technical are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ublish pap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ttend our conferences or worksho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members of the relevant 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009999"/>
                </a:solidFill>
                <a:uFillTx/>
                <a:latin typeface="Arial"/>
                <a:hlinkClick r:id="rId1"/>
              </a:rPr>
              <a:t>http://www.ieee.org/organizations/society/sp/tc.htm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relevant TC to learn who its members are and volunteer your service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ome involved in a Workshop</a:t>
            </a:r>
            <a:endParaRPr b="0" lang="en-US" sz="2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http://www.ieee.org/organizations/society/sp/SPSConf.html to find our calendar of meetings, then follow the link to a particular workshop – do you know any of the organizers? Volunteer your ser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want to help organize a workshop? Contact these same folks as well as the TC Ch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hapter Lev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the Distinguished Lecturer Program</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org/organizations/society/sp/dlprogram.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year SPS appoints six new DLs to give talks at Chap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ear’s lecturers are</a:t>
            </a:r>
            <a:r>
              <a:rPr b="0" lang="en-US" sz="2000" spc="-1" strike="noStrike">
                <a:solidFill>
                  <a:srgbClr val="cc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Moeness Amin – Villanova 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Andreas Antoniou – University of Victoria, Victoria, B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James D. Johnston – Microsoft Research</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Peter Vary – RWTH, Aachen, German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Mike Zoltowski – Purdue Universit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ossible to have 50% of the expense covered by DL support and the other 50% through Chapter suppor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000000"/>
                </a:solidFill>
                <a:latin typeface="Arial"/>
              </a:rPr>
              <a:t> - I don’t know why there are only 5 this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IE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Signal Processing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to become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 through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Structure</a:t>
            </a:r>
            <a:endParaRPr b="0" lang="en-US" sz="4400" spc="-1" strike="noStrike">
              <a:solidFill>
                <a:srgbClr val="000000"/>
              </a:solidFill>
              <a:latin typeface="Arial"/>
            </a:endParaRPr>
          </a:p>
        </p:txBody>
      </p:sp>
      <p:sp>
        <p:nvSpPr>
          <p:cNvPr id="48"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ctiv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technical societies and counci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ctivities Board is the governing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all technical publications except </a:t>
            </a:r>
            <a:r>
              <a:rPr b="0" i="1" lang="en-US" sz="2000" spc="-1" strike="noStrike">
                <a:solidFill>
                  <a:srgbClr val="000000"/>
                </a:solidFill>
                <a:latin typeface="Arial"/>
              </a:rPr>
              <a:t>Spectrum</a:t>
            </a:r>
            <a:r>
              <a:rPr b="0" lang="en-US" sz="2000" spc="-1" strike="noStrike">
                <a:solidFill>
                  <a:srgbClr val="000000"/>
                </a:solidFill>
                <a:latin typeface="Arial"/>
              </a:rPr>
              <a:t> and </a:t>
            </a:r>
            <a:r>
              <a:rPr b="0" i="1" lang="en-US" sz="2000" spc="-1" strike="noStrike">
                <a:solidFill>
                  <a:srgbClr val="000000"/>
                </a:solidFill>
                <a:latin typeface="Arial"/>
              </a:rPr>
              <a:t>Proceedings of the IEE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Activ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regions in total, 5 in USA, 1 in Can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are in Region 8 (Europe, Middle East &amp; Afr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Activities Board is the governing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each Region there are Se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s have at least two parents: a section and at least one or more Societ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Governance</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 Dan Sen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Board of Direc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directors from TAB + </a:t>
            </a:r>
            <a:r>
              <a:rPr b="0" lang="en-US" sz="2000" spc="-1" strike="noStrike">
                <a:solidFill>
                  <a:srgbClr val="6600ff"/>
                </a:solidFill>
                <a:latin typeface="Arial"/>
              </a:rPr>
              <a:t>VP TA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directors from RAB + </a:t>
            </a:r>
            <a:r>
              <a:rPr b="0" lang="en-US" sz="2000" spc="-1" strike="noStrike">
                <a:solidFill>
                  <a:srgbClr val="6600ff"/>
                </a:solidFill>
                <a:latin typeface="Arial"/>
              </a:rPr>
              <a:t>VP RAB</a:t>
            </a:r>
            <a:endParaRPr b="0" lang="en-US" sz="2000" spc="-1" strike="noStrike">
              <a:solidFill>
                <a:srgbClr val="000000"/>
              </a:solidFill>
              <a:latin typeface="Arial"/>
            </a:endParaRPr>
          </a:p>
          <a:p>
            <a:pPr lvl="1" marL="743040" indent="-28584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VP Standards</a:t>
            </a:r>
            <a:endParaRPr b="0" lang="en-US" sz="2000" spc="-1" strike="noStrike">
              <a:solidFill>
                <a:srgbClr val="000000"/>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resident, Past President &amp; President-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er &amp; Secretar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a:t>
            </a:r>
            <a:r>
              <a:rPr b="0" lang="en-US" sz="2000" spc="-1" strike="noStrike">
                <a:solidFill>
                  <a:srgbClr val="6600ff"/>
                </a:solidFill>
                <a:latin typeface="Arial"/>
              </a:rPr>
              <a:t>blue = 1 year</a:t>
            </a:r>
            <a:r>
              <a:rPr b="0" lang="en-US" sz="2000" spc="-1" strike="noStrike">
                <a:solidFill>
                  <a:srgbClr val="000000"/>
                </a:solidFill>
                <a:latin typeface="Arial"/>
              </a:rPr>
              <a:t>, black = 2 years, </a:t>
            </a:r>
            <a:r>
              <a:rPr b="0" lang="en-US" sz="2000" spc="-1" strike="noStrike">
                <a:solidFill>
                  <a:srgbClr val="33cc33"/>
                </a:solidFill>
                <a:latin typeface="Arial"/>
              </a:rPr>
              <a:t>green = 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er &amp; Secretary appointed, VP RAB elected by RAB, all others elected by IEEE membe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ExCom (Executive Committee) is a subset of the Board that is empowered to act on the Board’s behalf and is responsible for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FINCOM (Finance Committee) is a subset of the Board responsible for all aspects of IEEE’s fin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AB Governa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Technical Activities (Leah Jamieson) is responsible for presiding over TAB meetings and generally running TA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 consists of VP TA, VP TA-Elect, Past VP TA, Secretary (Mary Ward-Callan) and Treasurer, the 10 TAB Directors, and the ~40 Society and Council Presi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 sets policy and is responsible for all technical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PS Field of Interest &amp; Mis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ff"/>
                </a:solidFill>
                <a:latin typeface="Arial"/>
              </a:rPr>
              <a:t>Field of Intere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gnal Processing Society's areas of interest are the theory and application of filtering, coding, transmitting, estimating, detecting, analyzing, recognizing, synthesizing, recording, and reproducing signals by digital or analog devices or techniques. The term </a:t>
            </a:r>
            <a:r>
              <a:rPr b="0" i="1" lang="en-US" sz="2000" spc="-1" strike="noStrike">
                <a:solidFill>
                  <a:srgbClr val="000000"/>
                </a:solidFill>
                <a:latin typeface="Arial"/>
              </a:rPr>
              <a:t>signal</a:t>
            </a:r>
            <a:r>
              <a:rPr b="0" lang="en-US" sz="2000" spc="-1" strike="noStrike">
                <a:solidFill>
                  <a:srgbClr val="000000"/>
                </a:solidFill>
                <a:latin typeface="Arial"/>
              </a:rPr>
              <a:t> includes audio, video, speech, image, communication, geophysical, sonar, radar, medical, musical, and other signals. </a:t>
            </a:r>
            <a:endParaRPr b="0" lang="en-US" sz="20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Processing Society Constitution, Article II, amended January 1994)</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ff"/>
                </a:solidFill>
                <a:latin typeface="Arial"/>
              </a:rPr>
              <a:t>Mi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s of the Society shall be scientific and educational, directed toward the advancement of the theory and practice of its field of interest as defined in Article II (of the Constitution).  Its purpose is also professional, directed toward the advancement of the standing of its members.   Furthermore, it shall work with other IEEE entities to fulfill the broader purposed of the IEEE.</a:t>
            </a:r>
            <a:endParaRPr b="0" lang="en-US" sz="20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Processing Society Constitution, Article 1, Secti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Signal Processing Socie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s signal processing through its publications and meet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nferences: ICASSP &amp; ICI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ponsored Conferences: ICME &amp; ISB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Worksho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Pubs: 3 Transactions, Letters and SP Magazin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ponsored Pubs: TMM, TMI, TWC, TMC, ITS, Sensors J., MM Ma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 Governance consists of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Past President, President-Elect, VP Finance, Secretary, VP Awards &amp; Membershi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Director (Mercy Kowalczyk) – member of all Boards &amp; committees without vo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 of Governors (BoG) and ExCo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Board (incl VP Conferen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s Board (incl VP Publi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irections Committee (10 TC Chairs + Pres - El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Role of Bo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oli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range and strategic plan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bylaw change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BoG representatives-at-large are elected for 3-year terms (4 each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om members are the Society Officers elected by the BoG plus the Executive Director (non-vo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xCom members are voting members of the Bo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t-large member of the BoG is elected to the ExCom, any unexpired portion of their term is filled by an unsuccessful at-large BoG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Role of ExCom</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all operations of the Socie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to Bo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ed to act on BoG’s behalf pending subsequent approval of a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Executive Director and All Society Officers: </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Rich Co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resident (Panos Papamichali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Elect (Fred Mintz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Conferences (Rabab Ward)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Publications (Arye Nehora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Awards &amp; Membership (Rama Chellapp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Finance (V. John Mathew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 (A. Lee Swindlehu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2:36:44Z</dcterms:created>
  <dc:creator>rvc</dc:creator>
  <dc:description/>
  <dc:language>en-US</dc:language>
  <cp:lastModifiedBy>rvc</cp:lastModifiedBy>
  <dcterms:modified xsi:type="dcterms:W3CDTF">2003-09-08T17:43:24Z</dcterms:modified>
  <cp:revision>7</cp:revision>
  <dc:subject/>
  <dc:title>How to Get Involved with the Signal Processing Socie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45774651</vt:r8>
  </property>
  <property fmtid="{D5CDD505-2E9C-101B-9397-08002B2CF9AE}" pid="3" name="_AuthorEmail">
    <vt:lpwstr>rvc@research.att.com</vt:lpwstr>
  </property>
  <property fmtid="{D5CDD505-2E9C-101B-9397-08002B2CF9AE}" pid="4" name="_AuthorEmailDisplayName">
    <vt:lpwstr>Cox,Richard V (Rich)</vt:lpwstr>
  </property>
  <property fmtid="{D5CDD505-2E9C-101B-9397-08002B2CF9AE}" pid="5" name="_EmailSubject">
    <vt:lpwstr>R8 Chapter Chairs meeting + Program (fwd)</vt:lpwstr>
  </property>
</Properties>
</file>