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E9C080A-8F28-4CEB-B1D1-A4A44F1786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Img"/>
          </p:nvPr>
        </p:nvSpPr>
        <p:spPr>
          <a:xfrm>
            <a:off x="1195200" y="70776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en-US" sz="3500" spc="-1" strike="noStrike">
                <a:solidFill>
                  <a:srgbClr val="cf0e30"/>
                </a:solidFill>
                <a:latin typeface="Comic Sans MS"/>
              </a:rPr>
              <a:t>Click to move the slide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hart for the IEEE places the members at the top.  This emphasis on members by a dedicated group of volunteer leaders prompts a continuing review  of policies, benefits, products and services to help meet the members’ need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ecutive director is currently a volunteer, but this position has been joined with the general manager’s in the past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:  discussion of activities of various board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195560" y="708120"/>
            <a:ext cx="4624200" cy="34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95040"/>
            <a:ext cx="77752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2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901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77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95040"/>
            <a:ext cx="77752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en-US" sz="3500" spc="-1" strike="noStrike">
                <a:solidFill>
                  <a:srgbClr val="cf0e30"/>
                </a:solidFill>
                <a:latin typeface="Comic Sans MS"/>
              </a:rPr>
              <a:t>Click to edit the title text format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726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2" marL="1015920" indent="-20304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5" marL="1827360" indent="-20340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6" marL="1827360" indent="-203400">
              <a:spcBef>
                <a:spcPts val="7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2" name="ieeeblu" descr=""/>
          <p:cNvPicPr/>
          <p:nvPr/>
        </p:nvPicPr>
        <p:blipFill>
          <a:blip r:embed="rId2"/>
          <a:stretch/>
        </p:blipFill>
        <p:spPr>
          <a:xfrm>
            <a:off x="7504200" y="6281640"/>
            <a:ext cx="1066680" cy="3254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flipV="1">
            <a:off x="533520" y="6476760"/>
            <a:ext cx="6746760" cy="6120"/>
          </a:xfrm>
          <a:prstGeom prst="line">
            <a:avLst/>
          </a:prstGeom>
          <a:ln w="50760">
            <a:solidFill>
              <a:srgbClr val="2944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ff"/>
                </a:solidFill>
                <a:latin typeface="Times New Roman"/>
              </a:rPr>
              <a:t>Levent Onural – 2003 Secretary of IE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en-US" sz="3500" spc="-1" strike="noStrike">
                <a:solidFill>
                  <a:srgbClr val="cf0e30"/>
                </a:solidFill>
                <a:latin typeface="Comic Sans MS"/>
              </a:rPr>
              <a:t>Click to edit the title text format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pic>
        <p:nvPicPr>
          <p:cNvPr id="42" name="ieeeblu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04920" y="1828800"/>
            <a:ext cx="8610480" cy="263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414360" indent="0" algn="ctr">
              <a:spcBef>
                <a:spcPts val="624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2" marL="812880" algn="ctr"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3" marL="12193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62396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5" marL="162396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6" marL="162396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9907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Organizational Structure of IEEE</a:t>
            </a:r>
            <a:br>
              <a:rPr sz="3500"/>
            </a:b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Levent Onural</a:t>
            </a:r>
            <a:br>
              <a:rPr sz="3500"/>
            </a:b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2003 Secretary of IEEE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1" i="1" lang="tr-TR" sz="2000" spc="-1" strike="noStrike">
                <a:solidFill>
                  <a:srgbClr val="cf0e30"/>
                </a:solidFill>
                <a:latin typeface="Comic Sans MS"/>
              </a:rPr>
              <a:t>Barcelona, 13 Sep 20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Membership to Organizational Units of IEEE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 fontScale="93000"/>
          </a:bodyPr>
          <a:p>
            <a:pPr marL="283320" indent="-2833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Some are automatic: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All members of IEEE are also members of their Region and Section, if there is one.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Student members at a university are automatically members of their IEEE Student Branch (in general)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GOLD membership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marL="283320" indent="-2833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Some requires explicit subscription and additional payment is required: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Society Memberships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2" marL="944640" indent="-188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1900" spc="-1" strike="noStrike">
                <a:solidFill>
                  <a:srgbClr val="0033cc"/>
                </a:solidFill>
                <a:latin typeface="Comic Sans MS"/>
              </a:rPr>
              <a:t>(Chapter membership is automatic for a related society member, if there is a local chapter)</a:t>
            </a:r>
            <a:endParaRPr b="1" lang="en-US" sz="19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IEEE Standards membership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-22860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IEEE Women in Engineering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2" marL="944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1900" spc="-1" strike="noStrike">
                <a:solidFill>
                  <a:srgbClr val="0033cc"/>
                </a:solidFill>
                <a:latin typeface="Comic Sans MS"/>
              </a:rPr>
              <a:t>	</a:t>
            </a:r>
            <a:endParaRPr b="1" lang="en-US" sz="1900" spc="-1" strike="noStrike">
              <a:solidFill>
                <a:srgbClr val="0033cc"/>
              </a:solidFill>
              <a:latin typeface="Comic Sans MS"/>
            </a:endParaRPr>
          </a:p>
          <a:p>
            <a:pPr lvl="1" marL="613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1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Organizational Rights of Member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 fontScale="94000"/>
          </a:bodyPr>
          <a:p>
            <a:pPr marL="286560" indent="-28656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Rights of Members are defined by the governing legal document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20280" indent="-23112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Voting rights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1" marL="620280" indent="-231120">
              <a:lnSpc>
                <a:spcPct val="90000"/>
              </a:lnSpc>
              <a:spcBef>
                <a:spcPts val="5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Eligibility to take part in governing bodies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2" marL="954720" indent="-1908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1900" spc="-1" strike="noStrike">
                <a:solidFill>
                  <a:srgbClr val="0033cc"/>
                </a:solidFill>
                <a:latin typeface="Comic Sans MS"/>
              </a:rPr>
              <a:t>Elected Positions:</a:t>
            </a:r>
            <a:endParaRPr b="1" lang="en-US" sz="1900" spc="-1" strike="noStrike">
              <a:solidFill>
                <a:srgbClr val="0033cc"/>
              </a:solidFill>
              <a:latin typeface="Comic Sans MS"/>
            </a:endParaRPr>
          </a:p>
          <a:p>
            <a:pPr lvl="3" marL="1336680" indent="-190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Elected by All Members: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President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3" marL="1336680" indent="-190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Elected by groups of Members: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Some Vice-president position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Regional Director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Society Board of Governors/President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Section Chair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Chapter Chair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Student Branch Chairs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President of IEEE Standards 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4" marL="1717560" indent="-191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600" spc="-1" strike="noStrike">
                <a:solidFill>
                  <a:srgbClr val="0033cc"/>
                </a:solidFill>
                <a:latin typeface="Comic Sans MS"/>
              </a:rPr>
              <a:t>President of IEEE-USA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  <a:p>
            <a:pPr lvl="2" marL="954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Organizational Rights of Members</a:t>
            </a:r>
            <a:br>
              <a:rPr sz="3500"/>
            </a:br>
            <a:r>
              <a:rPr b="1" i="1" lang="tr-TR" sz="2400" spc="-1" strike="noStrike">
                <a:solidFill>
                  <a:srgbClr val="cf0e30"/>
                </a:solidFill>
                <a:latin typeface="Comic Sans MS"/>
              </a:rPr>
              <a:t>(Continues)</a:t>
            </a:r>
            <a:endParaRPr b="1" i="1" lang="en-US" sz="24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Positions Elected by the IEEE Assembly: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Treasurer of IEEE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Secretary of IEEE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Some VP positions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Positions Elected by the Regional Committees: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Regional Secretary, R. Treasurer,  R. VP’s, more..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Positions Elected by Society BoG’s: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Some Society Presidents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4" marL="18273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Other Society Positions (Secretary, Treasurer, more..)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2" marL="1015920" indent="-2030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100" spc="-1" strike="noStrike">
                <a:solidFill>
                  <a:srgbClr val="0033cc"/>
                </a:solidFill>
                <a:latin typeface="Comic Sans MS"/>
              </a:rPr>
              <a:t>Appointed Positions:</a:t>
            </a:r>
            <a:endParaRPr b="1" lang="en-US" sz="21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There are many of them...  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  <a:p>
            <a:pPr lvl="3" marL="1422360" indent="-203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1800" spc="-1" strike="noStrike">
                <a:solidFill>
                  <a:srgbClr val="0033cc"/>
                </a:solidFill>
                <a:latin typeface="Comic Sans MS"/>
              </a:rPr>
              <a:t>Appointed by different people empowered by the documents of IEEE</a:t>
            </a:r>
            <a:endParaRPr b="0" lang="en-US" sz="18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IEEE is a volunteer organization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Non of the elected or appointed people receive any compensation from IEEE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The costs of their authorized IEEE activities are reimbursed according to rul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govern IEEE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generate content for IEEE publications and conferenc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edit journal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organize conferenc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Volunteers organize meeting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Etc.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IEEE operations are supported by paid staff 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About 900 paid staff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Most are in Piscataway, NJ, USA (IEEE Operational Headquarters)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Some are in California, Washington, NY, Singapore and other plac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24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Accounting, membership records and requests, publication preparation, distribution, archives, volunteer support, infrastructure support, marketing, customer relations, etc. are mainly handled by staff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Revenue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2320" y="1599840"/>
            <a:ext cx="4137120" cy="4481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Dues Fee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lnSpc>
                <a:spcPct val="80000"/>
              </a:lnSpc>
              <a:spcBef>
                <a:spcPts val="575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Comic Sans MS"/>
              </a:rPr>
              <a:t>Institute Dues</a:t>
            </a:r>
            <a:endParaRPr b="1" lang="en-US" sz="23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lnSpc>
                <a:spcPct val="80000"/>
              </a:lnSpc>
              <a:spcBef>
                <a:spcPts val="575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Comic Sans MS"/>
              </a:rPr>
              <a:t>Society Fees</a:t>
            </a:r>
            <a:endParaRPr b="1" lang="en-US" sz="23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lnSpc>
                <a:spcPct val="80000"/>
              </a:lnSpc>
              <a:spcBef>
                <a:spcPts val="575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Comic Sans MS"/>
              </a:rPr>
              <a:t>Regional Assessments</a:t>
            </a:r>
            <a:endParaRPr b="1" lang="en-US" sz="23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Publication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Conference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Educational Course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Service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675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Investments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363600" y="13921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ONEYBAG" descr=""/>
          <p:cNvPicPr/>
          <p:nvPr/>
        </p:nvPicPr>
        <p:blipFill>
          <a:blip r:embed="rId1"/>
          <a:stretch/>
        </p:blipFill>
        <p:spPr>
          <a:xfrm>
            <a:off x="5661000" y="1758960"/>
            <a:ext cx="239400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en-US" sz="3500" spc="-1" strike="noStrike">
                <a:solidFill>
                  <a:srgbClr val="cf0e30"/>
                </a:solidFill>
                <a:latin typeface="Comic Sans MS"/>
              </a:rPr>
              <a:t>IEEE Expenditure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 fontScale="96000"/>
          </a:bodyPr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Salaries of Staff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Maintanence of Building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Maintanence and Upgrade of Information Technology Infrastructure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Office Supplie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Meeting Cos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Conference Cos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Publication Cos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Award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Mail and delivery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Communications Cos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Taxes, Rents, etc.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Interest Payments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-292680">
              <a:lnSpc>
                <a:spcPct val="90000"/>
              </a:lnSpc>
              <a:spcBef>
                <a:spcPts val="499"/>
              </a:spcBef>
              <a:buClr>
                <a:srgbClr val="cf0e30"/>
              </a:buClr>
              <a:buSzPct val="79000"/>
              <a:buFont typeface="Monotype Sorts" charset="2"/>
              <a:buChar char="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tr-TR" sz="2000" spc="-1" strike="noStrike">
                <a:solidFill>
                  <a:srgbClr val="0033cc"/>
                </a:solidFill>
                <a:latin typeface="Comic Sans MS"/>
              </a:rPr>
              <a:t>Etc.</a:t>
            </a: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  <a:p>
            <a:pPr marL="292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0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363600" y="13921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DOLLAR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1919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Vision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Comic Sans MS"/>
              </a:rPr>
              <a:t>To advance global prosperity by fostering technological innovation, enabling  members' careers &amp; promoting community world-wide</a:t>
            </a:r>
            <a:r>
              <a:rPr b="0" lang="en-US" sz="3100" spc="-1" strike="noStrike">
                <a:solidFill>
                  <a:srgbClr val="000099"/>
                </a:solidFill>
                <a:latin typeface="Comic Sans MS"/>
              </a:rPr>
              <a:t>. </a:t>
            </a:r>
            <a:endParaRPr b="1" lang="en-US" sz="3100" spc="-1" strike="noStrike">
              <a:solidFill>
                <a:srgbClr val="0033cc"/>
              </a:solidFill>
              <a:latin typeface="Comic Sans MS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31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63600" y="12463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Mission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700" spc="-1" strike="noStrike">
                <a:solidFill>
                  <a:srgbClr val="0033cc"/>
                </a:solidFill>
                <a:latin typeface="Comic Sans MS"/>
              </a:rPr>
              <a:t>The IEEE promotes the engineering process of creating, developing, integrating, sharing, &amp; applying knowledge about electro- and information-technologies &amp; sciences for the benefit of humanity &amp; the profession.  </a:t>
            </a: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7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363600" y="12463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Basic features of IEEE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 fontScale="99000"/>
          </a:bodyPr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Not-for-profit membership organization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Formally registered in New York State, USA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Tax-exempt status in USA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Operates for “the good of the public”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Is an “educational, scientific, and technical” entity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Has to obey all governing laws of NY, USA, and the country where it operate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Formal Governance Basics of IEEE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IEEE is governed by the following hierarcy of legal documents: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0">
              <a:spcBef>
                <a:spcPts val="726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Applicable Law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Certificate of Incorporation of IEEE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IEEE Constitution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IEEE Bylaw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IEEE Policy and Procedures Document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Resolutions of the Board of Director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6246720"/>
            <a:ext cx="19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5880" y="6246720"/>
            <a:ext cx="289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6246720"/>
            <a:ext cx="190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5880" y="6246720"/>
            <a:ext cx="289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b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Organization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6600" y="1600200"/>
            <a:ext cx="7988040" cy="4343400"/>
            <a:chOff x="606600" y="1600200"/>
            <a:chExt cx="7988040" cy="4343400"/>
          </a:xfrm>
        </p:grpSpPr>
        <p:sp>
          <p:nvSpPr>
            <p:cNvPr id="105" name=""/>
            <p:cNvSpPr/>
            <p:nvPr/>
          </p:nvSpPr>
          <p:spPr>
            <a:xfrm>
              <a:off x="5699160" y="2786040"/>
              <a:ext cx="1062000" cy="69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3880" y="403236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6240" y="4032360"/>
              <a:ext cx="10558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8960" y="4032360"/>
              <a:ext cx="105552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81320" y="5186520"/>
              <a:ext cx="10558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1320" y="4032360"/>
              <a:ext cx="10558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34040" y="4032360"/>
              <a:ext cx="105552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88200" y="518652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88200" y="403236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40560" y="518652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40560" y="4032360"/>
              <a:ext cx="105408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9240" y="2881440"/>
              <a:ext cx="1054440" cy="75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60840" y="1647720"/>
              <a:ext cx="1362240" cy="83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1520" y="2746440"/>
              <a:ext cx="1062360" cy="69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81520" y="2746440"/>
              <a:ext cx="1062360" cy="69372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97560" y="2468520"/>
              <a:ext cx="1440" cy="61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7560" y="3102120"/>
              <a:ext cx="20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8640" y="295920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221440" y="2436840"/>
              <a:ext cx="1440" cy="7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21440" y="2436840"/>
              <a:ext cx="1440" cy="78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26040" y="3219480"/>
              <a:ext cx="954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9000" y="3598920"/>
              <a:ext cx="1440" cy="21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33640" y="381168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0" y="381168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38360" y="3811680"/>
              <a:ext cx="180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92520" y="3811680"/>
              <a:ext cx="180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381168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97600" y="3811680"/>
              <a:ext cx="180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50320" y="381168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33640" y="3811680"/>
              <a:ext cx="115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3811680"/>
              <a:ext cx="115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8360" y="3811680"/>
              <a:ext cx="115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92520" y="3811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99000" y="3811680"/>
              <a:ext cx="1146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45240" y="3811680"/>
              <a:ext cx="115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97600" y="3811680"/>
              <a:ext cx="115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6600" y="399240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0160" y="407196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4480" y="4267080"/>
              <a:ext cx="784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amp; Ser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6600" y="399240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8960" y="3992400"/>
              <a:ext cx="105552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26080" y="4071960"/>
              <a:ext cx="72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EEE-U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58960" y="3992400"/>
              <a:ext cx="105552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11320" y="3992400"/>
              <a:ext cx="10558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7400" y="407196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duca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2400" y="437976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11320" y="3992400"/>
              <a:ext cx="10558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92520" y="4749840"/>
              <a:ext cx="180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4040" y="5146560"/>
              <a:ext cx="105552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71480" y="522612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4040" y="5146560"/>
              <a:ext cx="105552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64040" y="3992400"/>
              <a:ext cx="105552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54200" y="407196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35120" y="437976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4040" y="3992400"/>
              <a:ext cx="105552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16400" y="3992400"/>
              <a:ext cx="10558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8640" y="407196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2680" y="4379760"/>
              <a:ext cx="86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oc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16400" y="3992400"/>
              <a:ext cx="10558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7600" y="4749840"/>
              <a:ext cx="180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70560" y="514656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44880" y="522612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cie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70560" y="514656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0560" y="399240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34440" y="4071960"/>
              <a:ext cx="70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40200" y="437976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0560" y="399240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50320" y="4749840"/>
              <a:ext cx="1440" cy="39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23280" y="514656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5320" y="522612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68880" y="553392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amp; 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3280" y="514656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3280" y="399240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85360" y="4071960"/>
              <a:ext cx="71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ecu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58360" y="4379760"/>
              <a:ext cx="78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itt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23280" y="399240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71960" y="2841480"/>
              <a:ext cx="1054080" cy="7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71840" y="291924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ard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45920" y="3227400"/>
              <a:ext cx="67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1960" y="2841480"/>
              <a:ext cx="1054080" cy="7574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0320" y="1600200"/>
              <a:ext cx="136188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6680" y="1695600"/>
              <a:ext cx="1230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MEMBE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40320" y="1600200"/>
              <a:ext cx="1361880" cy="836640"/>
            </a:xfrm>
            <a:prstGeom prst="rect">
              <a:avLst/>
            </a:prstGeom>
            <a:noFill/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63600" y="13921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Membership Grade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Honarary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Fellow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Senior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Associate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lnSpc>
                <a:spcPct val="90000"/>
              </a:lnSpc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Student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lnSpc>
                <a:spcPct val="90000"/>
              </a:lnSpc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Each of these grades has different privilage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95040"/>
            <a:ext cx="7775280" cy="8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i="1" lang="tr-TR" sz="3500" spc="-1" strike="noStrike">
                <a:solidFill>
                  <a:srgbClr val="cf0e30"/>
                </a:solidFill>
                <a:latin typeface="Comic Sans MS"/>
              </a:rPr>
              <a:t>Membership Categories</a:t>
            </a:r>
            <a:endParaRPr b="1" i="1" lang="en-US" sz="3500" spc="-1" strike="noStrike">
              <a:solidFill>
                <a:srgbClr val="cf0e3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600" bIns="39600" anchor="t">
            <a:normAutofit/>
          </a:bodyPr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Life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Retired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Minimum Income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Permanently Disabled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marL="304920" indent="-304920">
              <a:spcBef>
                <a:spcPts val="726"/>
              </a:spcBef>
              <a:buClr>
                <a:srgbClr val="cf0e30"/>
              </a:buClr>
              <a:buSzPct val="7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900" spc="-1" strike="noStrike">
                <a:solidFill>
                  <a:srgbClr val="0033cc"/>
                </a:solidFill>
                <a:latin typeface="Comic Sans MS"/>
              </a:rPr>
              <a:t>Unemployed Members</a:t>
            </a:r>
            <a:endParaRPr b="1" lang="en-US" sz="2900" spc="-1" strike="noStrike">
              <a:solidFill>
                <a:srgbClr val="0033cc"/>
              </a:solidFill>
              <a:latin typeface="Comic Sans MS"/>
            </a:endParaRPr>
          </a:p>
          <a:p>
            <a:pPr lvl="1" marL="660240" indent="-245880">
              <a:spcBef>
                <a:spcPts val="624"/>
              </a:spcBef>
              <a:buClr>
                <a:srgbClr val="cf0e30"/>
              </a:buClr>
              <a:buSzPct val="89000"/>
              <a:buFont typeface="Wingdings" charset="2"/>
              <a:buChar char="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tr-TR" sz="2500" spc="-1" strike="noStrike">
                <a:solidFill>
                  <a:srgbClr val="0033cc"/>
                </a:solidFill>
                <a:latin typeface="Comic Sans MS"/>
              </a:rPr>
              <a:t>Each category has its related “additional” benefits</a:t>
            </a:r>
            <a:endParaRPr b="1" lang="en-US" sz="25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5040" y="366840"/>
            <a:ext cx="7774200" cy="969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6360" bIns="36360" anchor="ctr">
            <a:noAutofit/>
          </a:bodyPr>
          <a:p>
            <a:pPr indent="0" algn="ctr"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3500" spc="-1" strike="noStrike">
                <a:solidFill>
                  <a:srgbClr val="cf0e30"/>
                </a:solidFill>
                <a:latin typeface="Comic Sans MS"/>
              </a:rPr>
              <a:t>IEEE Membership by Grade</a:t>
            </a:r>
            <a:br>
              <a:rPr sz="3500"/>
            </a:br>
            <a:r>
              <a:rPr b="1" lang="en-US" sz="2100" spc="-1" strike="noStrike">
                <a:solidFill>
                  <a:srgbClr val="cf0e30"/>
                </a:solidFill>
                <a:latin typeface="Comic Sans MS"/>
              </a:rPr>
              <a:t>31 December 2001</a:t>
            </a:r>
            <a:endParaRPr b="1" i="1" lang="en-US" sz="2100" spc="-1" strike="noStrike">
              <a:solidFill>
                <a:srgbClr val="cf0e30"/>
              </a:solidFill>
              <a:latin typeface="Comic Sans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09480" y="1523880"/>
          <a:ext cx="71964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1964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 flipH="1">
            <a:off x="5290920" y="2597040"/>
            <a:ext cx="45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48480" y="2444760"/>
            <a:ext cx="164916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Associate 13.6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565280" y="4394160"/>
            <a:ext cx="652320" cy="36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1840" y="4394160"/>
            <a:ext cx="106524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Me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60.5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181480"/>
            <a:ext cx="290520" cy="51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5715000"/>
            <a:ext cx="144756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Fellow - 1.5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4191120" y="5181480"/>
            <a:ext cx="4046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5410080"/>
            <a:ext cx="210348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Senior Member 7.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040" y="2268360"/>
            <a:ext cx="1044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100" spc="-1" strike="noStrike">
                <a:solidFill>
                  <a:srgbClr val="cf0e30"/>
                </a:solidFill>
                <a:latin typeface="Comic Sans MS"/>
              </a:rPr>
              <a:t>69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n-US" sz="2100" spc="-1" strike="noStrike">
                <a:solidFill>
                  <a:srgbClr val="cf0e30"/>
                </a:solidFill>
                <a:latin typeface="Comic Sans MS"/>
              </a:rPr>
              <a:t>Vo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67240" y="396864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733920"/>
            <a:ext cx="17528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omic Sans MS"/>
              </a:rPr>
              <a:t>Student 17.4 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9600" y="2268360"/>
            <a:ext cx="7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94480" y="2254320"/>
            <a:ext cx="0" cy="19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2680" y="41734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75400" y="2784600"/>
            <a:ext cx="16686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Comic Sans MS"/>
              </a:rPr>
              <a:t>31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Comic Sans MS"/>
              </a:rPr>
              <a:t>Non-Vo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3600" y="1392120"/>
            <a:ext cx="841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3T08:46:40Z</dcterms:created>
  <dc:creator>AUTHORIZED GATEWAY 2000 USER</dc:creator>
  <dc:description/>
  <dc:language>en-US</dc:language>
  <cp:lastModifiedBy>xx</cp:lastModifiedBy>
  <cp:lastPrinted>2000-03-06T16:39:21Z</cp:lastPrinted>
  <dcterms:modified xsi:type="dcterms:W3CDTF">2003-09-11T21:11:08Z</dcterms:modified>
  <cp:revision>23781</cp:revision>
  <dc:subject/>
  <dc:title>Board of directors slides</dc:title>
</cp:coreProperties>
</file>